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A692-680F-4A8D-AF60-918CF255F4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E346-77E7-4CBA-9E78-43888FD7C84F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1DFB-E2E7-4823-9C57-6FF2BDE93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36B39-5190-4EAE-A1F7-DE1C86928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E9663-E203-4DCE-9A28-DC72C6764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90499-0F76-4E9F-98C9-CA4E32305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45ECC-E793-4FBA-B588-EDB2AA7FDC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CCFC9-FA4B-4387-AD23-F4431976FD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4A0DF-F9B1-42EB-9489-8F5D2B265F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D5212-5338-484E-A2E0-8AD2DB5F1D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BA017-5090-4499-BDB9-7D4F5BB834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A6DDE-D8EA-4D0E-A723-52227C8779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9C00E-8BF1-4B97-98AB-DF7BAF21BA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71F1F-58A0-438E-8DC7-5806E5F66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51625-016C-4CCA-95F1-37307CAC0A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8D41F-631E-46E8-9720-73163251E1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3D2C2-EEC2-408C-A529-2F7E0BDCDF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62E93-BF54-4AD4-8C0C-7B380BA63E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B8DD7-243D-4B4B-9B4A-C13D0E4D00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EAD9A-B99D-4A43-8C87-C9DC339AE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9825-2087-486C-96BF-4692A4EC3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6C889-B88F-4C58-90BB-987826AC0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CE44-4F77-4BCC-AD53-0E3935507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21C69-1CA8-4827-9782-55AAD9002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6FCC7-0471-475D-8C37-9473DAFB4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E80A-7332-4BDC-ADD9-917B5F460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46CB7E0-FC45-4FFE-8A3D-BEE4C0BF416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64CACC0-5E3B-4E96-97CE-96BB2B50BCE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908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9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51264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463E41B-379F-4D8F-B800-FDB1A9B36D0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F138E03-61DD-4ABA-8B77-E54C786A677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http://onlinestatbook.com/stat_sim/sampling_dist/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21-09-29T12:02:39Z</dcterms:modified>
  <cp:revision>354</cp:revision>
  <dc:subject/>
  <dc:title>Exploratory Data Analysis</dc:title>
</cp:coreProperties>
</file>